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1F49-1155-45FC-B1FB-651A6E4B7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5FCF-B85C-4A90-A18A-A054E045B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9DF1-8589-410D-AF63-5D0B3BB3F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4E2E-BEC7-4BAE-BF4E-D66C0719C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CC468-48CF-4A96-9318-C2F5DF5E1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8CCC5-7EF7-4209-9BDA-9530231D2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46886-C7FE-4D5C-A25F-A06295E11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6B371-E67F-49F8-BBC6-9911CA526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78066-0F22-4D2B-A1EE-0F1E825C1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70723-7386-48F1-92DF-82E2EBAE7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80E3B-75D2-470B-9A9E-5734E5ED8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E8CF-120E-4E6F-8DCD-A8C849EC5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2C14C-C963-4BA6-A3CE-A65F344E2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7C59B-3782-4276-9406-3E2BA7AC2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AFB21-441D-4D5B-8D50-F8E7D74C1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C8196-83C6-498F-8533-33502F4B0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BFC09-F0A8-4EF1-BA11-77E7F0E94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6C45-23A4-4F0A-BDB5-907A0E56E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04D8-C256-418D-BEC6-324741891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91C0-224E-4456-9C46-5B1292526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3FDD-7D67-4116-921A-2258A96D5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4040-54F2-4E49-8B2C-6BFFB9897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49A1-247D-49B7-A208-3D587D887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58BC-A3C2-4D03-B1AB-15139D9D3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EE0FE-4D86-4660-B77A-B9DB1DE82C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92C27-F0F7-4DA6-BB7B-3B3D1508A3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7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사의 인사 및 복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등과 자유에 대하여 생각해 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인사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사행정의 영역 또는 기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무의 분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평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승진 및 배치전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등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7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 참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인사행정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활동의 주체가 되는 교원이 이들을 지원하는 교육전문직과 일반직을 확보하고 자질을 향상시켜 근무의욕을 높여 주는 일련의 행정지원 활동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인사행정의 원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확립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실적주의와 연공서열주의의 적절한 조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정성 유지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재적소 배치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정수급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공무원의 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교수 학장 총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 중등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 교사 원감 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학사 장학관 교육장 교육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연구사 교육연구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09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0T09:05:28Z</dcterms:modified>
  <cp:revision>7</cp:revision>
  <dc:subject/>
  <dc:title>제 6장 교사교육 </dc:title>
</cp:coreProperties>
</file>